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69A09-D433-4300-B38D-24E5318CE8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03A20-0115-40D8-8D52-79CFA78E1E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82179-0604-493B-B1BA-D66299DDD0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4410B-80E1-40E0-840A-F38EA5EB1D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93CE9-FF5F-4400-9AC3-043B3C8906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14B62-5667-41DF-9246-10CF44DF46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2C024-CF06-42E6-830B-F6EA43FAB6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1276B-82E7-4D17-A316-BA6679AE9D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41950-4272-4B6A-A579-3680D79F1A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7100F-2C40-4A80-B297-3DAA6C4EC2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815BD-4859-4E76-A720-CCFC9DEB7D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7A973-7965-4A92-AB5D-AEAB64BF3D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B7B40-4E36-4510-91D1-01A6DA73D64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589CF-3325-479E-8583-592AC72F0DC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2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Different Ways of Thinking About F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024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Learning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19040" y="117432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will deepen our understanding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 different meanings of f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our own experiences may bias us in terms of the type of fractions we default to and/or the type of representations we sel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2ED35-498B-4AED-935B-3F9B956D358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E7AA2-DED5-4E6E-9C3D-3063D1BE0FB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lacemat Activity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80880" y="1828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your understanding of fractions (what you remember from school, contexts you use them, representations for…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the information recorded by each person and consolidate it in the centre of the place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28B26-A395-4E4C-9282-B3C7A365991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80880" y="1584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a variety of manipulatives, identify a fraction and then represent it in as many ways as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each model on a sticky n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presenting Frac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7401D-A615-4B6C-B34D-59245E8A1FF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ort and Discus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04920" y="2057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your sticky notes on the chart paper under each of the different meanings of f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placement with others as you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BE91-4C23-4C17-859D-7ECDCE48AB0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Making Mean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2361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e into 7 group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group takes one sheet or faction mea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with your group to organize and annotate to add mea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AD415-E818-4186-B1D5-9465147AB34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Debrief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87440" y="1211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criteria did you use to group the sticky notes on your pa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ich ones were difficult to pl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ich ones did you chose to move to another page and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questions do you 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might this sort of activity relate to the mathematical proces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94DFC-DC98-4951-82A7-441C447E383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Blair, Danielle</cp:lastModifiedBy>
  <dcterms:modified xsi:type="dcterms:W3CDTF">2012-07-24T19:50:38Z</dcterms:modified>
  <cp:revision>33</cp:revision>
  <dc:subject/>
  <dc:title>&lt;Title&gt;</dc:title>
</cp:coreProperties>
</file>